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35.png" ContentType="image/png"/>
  <Override PartName="/ppt/media/image30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7ED-239D-4D95-9188-C6FBF623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043-3A4E-4BA7-A6EC-FB346587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6A1-CD52-42F2-92DC-9204334B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5FF-F130-41F1-B6C9-4CBCDE4F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A131-7C56-470E-92BE-ACA56D14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F54-362C-4AB8-8EC5-C40EB836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FED-FA0E-48A6-9EDF-8EF556B3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130-4D29-4275-8A76-1733BD7F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B14-2922-4334-A02B-ECEFADD6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BDF-3DAC-47D5-864E-52CC3F13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151E-9DB0-4447-8033-7C27F450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5CF-5F4B-47D6-8801-0F8B9684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EBB7-728F-408B-BE36-CC1736389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378400">
            <a:off x="522000" y="257760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Berlin Sans FB"/>
              </a:rPr>
              <a:t>T</a:t>
            </a:r>
            <a:r>
              <a:rPr b="0" lang="en-US" sz="6500" spc="-1" strike="noStrike">
                <a:solidFill>
                  <a:srgbClr val="ff0000"/>
                </a:solidFill>
                <a:latin typeface="Berlin Sans FB"/>
              </a:rPr>
              <a:t>ELEVISION - 2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A9F1-2F98-489A-9F03-BC2180D56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 G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 Gr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lerating Gr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ing Gr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7D1F-4FF8-4CA8-9254-0D09F9037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ECE\My Documents\suresh\Composite V 002.jpg"/>
          <p:cNvPicPr/>
          <p:nvPr/>
        </p:nvPicPr>
        <p:blipFill>
          <a:blip r:embed="rId1"/>
          <a:stretch/>
        </p:blipFill>
        <p:spPr>
          <a:xfrm>
            <a:off x="214200" y="214200"/>
            <a:ext cx="8929800" cy="6429600"/>
          </a:xfrm>
          <a:prstGeom prst="rect">
            <a:avLst/>
          </a:prstGeom>
          <a:ln w="0">
            <a:noFill/>
          </a:ln>
        </p:spPr>
      </p:pic>
      <p:sp>
        <p:nvSpPr>
          <p:cNvPr id="85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B62C-3606-439E-86B8-2C7405646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ECE\My Documents\suresh\Composite V 003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8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0D9F-A619-4230-9032-D28BC2973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curtpalme.com/images/+electrostatic.png"/>
          <p:cNvPicPr/>
          <p:nvPr/>
        </p:nvPicPr>
        <p:blipFill>
          <a:blip r:embed="rId1"/>
          <a:stretch/>
        </p:blipFill>
        <p:spPr>
          <a:xfrm>
            <a:off x="642960" y="642960"/>
            <a:ext cx="8072280" cy="5643720"/>
          </a:xfrm>
          <a:prstGeom prst="rect">
            <a:avLst/>
          </a:prstGeom>
          <a:ln w="0">
            <a:noFill/>
          </a:ln>
        </p:spPr>
      </p:pic>
      <p:sp>
        <p:nvSpPr>
          <p:cNvPr id="9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DF83-EF9B-4671-8D47-E09C9ED31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E:\T S R\CMS\Unit 2\08_burn_free.jpg"/>
          <p:cNvPicPr/>
          <p:nvPr/>
        </p:nvPicPr>
        <p:blipFill>
          <a:blip r:embed="rId1"/>
          <a:stretch/>
        </p:blipFill>
        <p:spPr>
          <a:xfrm>
            <a:off x="571680" y="428760"/>
            <a:ext cx="7786440" cy="600048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F390-4B20-48FE-A3C2-027616E54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ECE\My Documents\suresh\Composite V 004.jpg"/>
          <p:cNvPicPr/>
          <p:nvPr/>
        </p:nvPicPr>
        <p:blipFill>
          <a:blip r:embed="rId1"/>
          <a:stretch/>
        </p:blipFill>
        <p:spPr>
          <a:xfrm rot="60000">
            <a:off x="213840" y="285480"/>
            <a:ext cx="8715600" cy="6286320"/>
          </a:xfrm>
          <a:prstGeom prst="rect">
            <a:avLst/>
          </a:prstGeom>
          <a:ln w="0">
            <a:noFill/>
          </a:ln>
        </p:spPr>
      </p:pic>
      <p:sp>
        <p:nvSpPr>
          <p:cNvPr id="10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DE3A-E762-4E1D-96B7-F60B1ADAB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857160" y="928800"/>
            <a:ext cx="7000920" cy="5286240"/>
          </a:xfrm>
          <a:prstGeom prst="rect">
            <a:avLst/>
          </a:prstGeom>
          <a:ln w="0">
            <a:noFill/>
          </a:ln>
        </p:spPr>
      </p:pic>
      <p:sp>
        <p:nvSpPr>
          <p:cNvPr id="105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613E-B2FF-4D6D-9238-2A9CE9BF3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ECE\My Documents\suresh\Composite V 007.jpg"/>
          <p:cNvPicPr/>
          <p:nvPr/>
        </p:nvPicPr>
        <p:blipFill>
          <a:blip r:embed="rId1"/>
          <a:stretch/>
        </p:blipFill>
        <p:spPr>
          <a:xfrm>
            <a:off x="428760" y="214200"/>
            <a:ext cx="8358120" cy="6215040"/>
          </a:xfrm>
          <a:prstGeom prst="rect">
            <a:avLst/>
          </a:prstGeom>
          <a:ln w="0">
            <a:noFill/>
          </a:ln>
        </p:spPr>
      </p:pic>
      <p:sp>
        <p:nvSpPr>
          <p:cNvPr id="10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3291-AD8D-4813-8F42-30D3E6AD6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7358040" cy="507204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49A9-535C-4CDC-B6F3-B96B802DE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7715160" cy="4929120"/>
          </a:xfrm>
          <a:prstGeom prst="rect">
            <a:avLst/>
          </a:prstGeom>
          <a:ln w="0">
            <a:noFill/>
          </a:ln>
        </p:spPr>
      </p:pic>
      <p:sp>
        <p:nvSpPr>
          <p:cNvPr id="11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004B-DB17-4072-872A-4FDA1BF57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121932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"/>
              </a:rPr>
              <a:t>EC 326 COMMUNICATION SYSTEM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askerville Old Face"/>
              </a:rPr>
              <a:t>UNIT - I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2388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T Srinivasa Ra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Monotype Corsiva"/>
              </a:rPr>
              <a:t>Dept. of E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Monotype Corsiva"/>
              </a:rPr>
              <a:t>Bapatla Engineering Colle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381880" cy="50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914400" y="380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erlin Sans FB"/>
              </a:rPr>
              <a:t>Vidicon camera tube cross-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EB2F-445F-4D8B-B594-81AB71587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238880" cy="5410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rlin Sans FB"/>
              </a:rPr>
              <a:t>Circuit for output signal from a Vidicon camera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2F86-BBBF-43B2-B362-111EBFB58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934320" cy="54864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68580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Berlin Sans FB"/>
              </a:rPr>
              <a:t>Leaky Capacitor Con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7121-F7FC-414C-9E89-BB34ADEF7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990720" y="3808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THE PLUMBIC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228600" y="57913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arget Details             Output Signal Current                 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5195-F7D5-401E-9D59-699795E5F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B383-2ED1-4761-9061-F1236C353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4400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5257800" cy="3581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609480" y="44956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erlin Sans FB"/>
              </a:rPr>
              <a:t>A sync generator dr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erlin Sans FB"/>
              </a:rPr>
              <a:t>several camera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191120" y="4419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erlin Sans FB"/>
              </a:rPr>
              <a:t>Switcher for selecting any camera output to one moni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FB66-53B7-4F30-BEB7-56AD80CF4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B6D7-9060-46C3-ACAF-368151387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lin Sans FB"/>
              </a:rPr>
              <a:t>Block diagram of a drive and sync pulse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F628-A8F0-4D1F-9D62-602C49040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0" y="3808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erlin Sans FB"/>
              </a:rPr>
              <a:t>Block Diagram of a Television Transm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8715600" cy="5715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357120" y="21420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erlin Sans FB"/>
              </a:rPr>
              <a:t>Rear view of a black and white receiver with the back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F40E-BD5D-4E31-B829-A9AE49B17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8643960" cy="55720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285840" y="21420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rlin Sans FB"/>
              </a:rPr>
              <a:t>Block diagram of a monochrome television 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1C97-6F27-4EFB-A148-6D8F24D04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Par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on characteristics and scanning systems, Composite video sig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Part 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ra tubes: Principle of operation, Image Orthicon, Vidicon, Plumbic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Part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 diagram of broad cast TV transmi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 diagram of broadcast TV recei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E8DF-A92B-455F-82D7-E1229A0A1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7643880" cy="5072040"/>
          </a:xfrm>
          <a:prstGeom prst="rect">
            <a:avLst/>
          </a:prstGeom>
          <a:ln w="0">
            <a:noFill/>
          </a:ln>
        </p:spPr>
      </p:pic>
      <p:sp>
        <p:nvSpPr>
          <p:cNvPr id="17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DE4E-013B-4138-A988-5DA9E35EE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lin Sans FB"/>
              </a:rPr>
              <a:t>CHOICE OF INTERMEDIATE FREQUENCY IN T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i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age Rejection Rat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i) Pick-up Due to Local Oscillator Radiation from TV Rece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ii) Ease of Separation of Modulating Signal from IF Carrier at the Demodul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v) Image Frequencies Should Not Lie in the FM B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v) Interference or Direct Pick-Up from Bands Assigned for othe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vi) 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641C-6C99-43D8-8734-76BCA937E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erlin Sans FB"/>
              </a:rPr>
              <a:t>V S B CORR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858080" cy="5143320"/>
          </a:xfrm>
          <a:prstGeom prst="rect">
            <a:avLst/>
          </a:prstGeom>
          <a:ln w="0">
            <a:noFill/>
          </a:ln>
        </p:spPr>
      </p:pic>
      <p:sp>
        <p:nvSpPr>
          <p:cNvPr id="18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6B54-9100-49AC-B93F-86FF8850A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VIDEO DETECT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571760" y="1285920"/>
            <a:ext cx="6072120" cy="2643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1500120" y="4214880"/>
            <a:ext cx="6153120" cy="2433600"/>
          </a:xfrm>
          <a:prstGeom prst="rect">
            <a:avLst/>
          </a:prstGeom>
          <a:ln w="0">
            <a:noFill/>
          </a:ln>
        </p:spPr>
      </p:pic>
      <p:sp>
        <p:nvSpPr>
          <p:cNvPr id="18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11AF-494F-431B-A8CF-1ACD03723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lin Sans FB"/>
              </a:rPr>
              <a:t>Detector and filter circuit of a radio rece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714240" y="1071720"/>
            <a:ext cx="7643880" cy="5286240"/>
          </a:xfrm>
          <a:prstGeom prst="rect">
            <a:avLst/>
          </a:prstGeom>
          <a:ln w="0">
            <a:noFill/>
          </a:ln>
        </p:spPr>
      </p:pic>
      <p:sp>
        <p:nvSpPr>
          <p:cNvPr id="1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0676-6603-454B-85A3-E491E5753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erlin Sans FB"/>
              </a:rPr>
              <a:t>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1280" y="999720"/>
            <a:ext cx="90014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) The detector load must provide a suitable impedance as seen through the diode, a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of the detector to tune and damp secondary of the last IF coupling circuit correct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) The detector load must remove from the output, the IF content in the signal as mu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possible. For this purpose the load usually includes one or two low-pass filter se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) The detector load should have a trap circuit (a series rejector circuit) for separat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tercarrier sound sig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) The detector load must also include a provision to boost the higher video frequenci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ompensate for the loss due to input capacitance of the video amplifi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AD5D-8BE4-40F1-84AE-0C7925CDB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rlin Sans FB"/>
              </a:rPr>
              <a:t>FUNCTIONS OF THE COMPOSITE VIDEO SIG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7643880" cy="4714920"/>
          </a:xfrm>
          <a:prstGeom prst="rect">
            <a:avLst/>
          </a:prstGeom>
          <a:ln w="0">
            <a:noFill/>
          </a:ln>
        </p:spPr>
      </p:pic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CF88-FCF2-4B75-B1B0-6A70BC35B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erlin Sans FB"/>
              </a:rPr>
              <a:t>SOUND SIGNAL SEPA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62000" y="1714680"/>
            <a:ext cx="8767800" cy="4410000"/>
          </a:xfrm>
          <a:prstGeom prst="rect">
            <a:avLst/>
          </a:prstGeom>
          <a:ln w="0">
            <a:noFill/>
          </a:ln>
        </p:spPr>
      </p:pic>
      <p:sp>
        <p:nvSpPr>
          <p:cNvPr id="2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5931-D687-449D-9039-8FEC1E886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Block diagram of AGC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8286840" cy="4572000"/>
          </a:xfrm>
          <a:prstGeom prst="rect">
            <a:avLst/>
          </a:prstGeom>
          <a:ln w="0">
            <a:noFill/>
          </a:ln>
        </p:spPr>
      </p:pic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C5B9-6A7F-417A-84CB-F0701172A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High Voltage (EHT)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8143920" cy="5000400"/>
          </a:xfrm>
          <a:prstGeom prst="rect">
            <a:avLst/>
          </a:prstGeom>
          <a:ln w="0">
            <a:noFill/>
          </a:ln>
        </p:spPr>
      </p:pic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22BE-35E7-4B7A-8EC0-9797F8084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Simplified cross-sectional view of a Vidicon TV camera tub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B4FA-D265-42E0-8A74-AE95A2752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Deflection Circu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25600" y="2000160"/>
            <a:ext cx="8494560" cy="3929040"/>
          </a:xfrm>
          <a:prstGeom prst="rect">
            <a:avLst/>
          </a:prstGeom>
          <a:ln w="0">
            <a:noFill/>
          </a:ln>
        </p:spPr>
      </p:pic>
      <p:sp>
        <p:nvSpPr>
          <p:cNvPr id="2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0004-11E2-4AC0-AE04-1F1860988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071720" y="357120"/>
            <a:ext cx="6858000" cy="30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857160" y="3643200"/>
            <a:ext cx="7286760" cy="3143520"/>
          </a:xfrm>
          <a:prstGeom prst="rect">
            <a:avLst/>
          </a:prstGeom>
          <a:ln w="0">
            <a:noFill/>
          </a:ln>
        </p:spPr>
      </p:pic>
      <p:sp>
        <p:nvSpPr>
          <p:cNvPr id="2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E1CE-FDE5-4EF7-8669-31F0BB49B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erlin Sans FB"/>
              </a:rPr>
              <a:t>Operating Controls of a T V Recei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nel Sel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e Tu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gh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ical 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izontal Ho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D669-A1BE-42B5-B912-1ADC7FFEF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 rot="20378400">
            <a:off x="-58320" y="2918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Next…</a:t>
            </a:r>
            <a:br>
              <a:rPr sz="8000"/>
            </a:br>
            <a:r>
              <a:rPr b="0" lang="en-US" sz="8000" spc="-1" strike="noStrike">
                <a:solidFill>
                  <a:srgbClr val="1e03bd"/>
                </a:solidFill>
                <a:latin typeface="Berlin Sans FB"/>
              </a:rPr>
              <a:t>Colour Television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AAC5-D01E-4908-86F6-B45AFF83C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Elements of a picture tu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B394-0773-4070-93FF-6E2D29283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4357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Signal transmission paths illustrating compatibility between colo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and monochrome TV system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R, G and B represent three camera tubes which develop video signals corresponding to the red, green and blue contents of the scene being telev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C086-7877-4B95-82B8-36743845C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A Rectangular Picture Tu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214280" y="1571760"/>
            <a:ext cx="6786720" cy="5072040"/>
          </a:xfrm>
          <a:prstGeom prst="rect">
            <a:avLst/>
          </a:prstGeom>
          <a:ln w="0">
            <a:noFill/>
          </a:ln>
        </p:spPr>
      </p:pic>
      <p:sp>
        <p:nvSpPr>
          <p:cNvPr id="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0FD1-36D8-4AC2-A260-0A9687BA4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chrome Picture Tub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Electron G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ous phosphor co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lour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Picture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T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electron b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phosph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450C-3BFD-4A4C-8868-8B86F7459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ECE\My Documents\suresh\Composite V 001.jpg"/>
          <p:cNvPicPr/>
          <p:nvPr/>
        </p:nvPicPr>
        <p:blipFill>
          <a:blip r:embed="rId1"/>
          <a:stretch/>
        </p:blipFill>
        <p:spPr>
          <a:xfrm rot="21540000">
            <a:off x="282600" y="214200"/>
            <a:ext cx="8647200" cy="6431040"/>
          </a:xfrm>
          <a:prstGeom prst="rect">
            <a:avLst/>
          </a:prstGeom>
          <a:ln w="0">
            <a:noFill/>
          </a:ln>
        </p:spPr>
      </p:pic>
      <p:sp>
        <p:nvSpPr>
          <p:cNvPr id="7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C9E5-4B50-4087-995B-795017DD3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02:37:22Z</dcterms:created>
  <dc:creator>T Srinivasa Rao</dc:creator>
  <dc:description/>
  <dc:language>en-US</dc:language>
  <cp:lastModifiedBy>T Srinivasa Rao</cp:lastModifiedBy>
  <dcterms:modified xsi:type="dcterms:W3CDTF">2010-01-30T02:44:51Z</dcterms:modified>
  <cp:revision>4</cp:revision>
  <dc:subject/>
  <dc:title> TELEVISION</dc:title>
</cp:coreProperties>
</file>