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35.png" ContentType="image/png"/>
  <Override PartName="/ppt/media/image30.png" ContentType="image/png"/>
  <Override PartName="/ppt/media/image20.png" ContentType="image/png"/>
  <Override PartName="/ppt/media/image28.png" ContentType="image/png"/>
  <Override PartName="/ppt/media/image7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8.png" ContentType="image/png"/>
  <Override PartName="/ppt/media/image13.png" ContentType="image/png"/>
  <Override PartName="/ppt/media/image37.png" ContentType="image/pn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9E27-12D8-44F4-B0F7-60FFAF366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00FC-3671-4F9C-9E7E-9EA8A604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21D4-3209-4BCF-99ED-DB92228E1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5EF6-2265-43D6-9096-228C0A6BF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66B7B-AA70-4F38-898B-C3E16B42A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A9E3-F2F9-4510-A9CD-B48576F6F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838E-5C91-4C8D-BCF6-5D461F320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A1B-7E11-4C45-9A48-77EA3F496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1EE46-E7D8-44E6-BD95-1B16F5467E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6C390-18FC-49F2-8731-B44635CDD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EB8-689F-4F1B-8D8A-D89D23EE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FC24-3E11-4B42-8C2B-93FA2793E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40EF-6CBB-4B07-BDDA-580BBE4B7F4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 rot="20378400">
            <a:off x="522000" y="2577600"/>
            <a:ext cx="8004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 </a:t>
            </a:r>
            <a:r>
              <a:rPr b="0" lang="en-US" sz="7200" spc="-1" strike="noStrike">
                <a:solidFill>
                  <a:srgbClr val="ff0000"/>
                </a:solidFill>
                <a:latin typeface="Berlin Sans FB"/>
              </a:rPr>
              <a:t>T</a:t>
            </a:r>
            <a:r>
              <a:rPr b="0" lang="en-US" sz="6500" spc="-1" strike="noStrike">
                <a:solidFill>
                  <a:srgbClr val="ff0000"/>
                </a:solidFill>
                <a:latin typeface="Berlin Sans FB"/>
              </a:rPr>
              <a:t>ELEVISION - 2</a:t>
            </a:r>
            <a:endParaRPr b="0" lang="en-US" sz="6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7705-A1DD-4AC7-9C04-6BECA939CD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457200" y="713880"/>
            <a:ext cx="8229600" cy="54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lectron G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ol Gri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ccelerating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cusing Gri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A37E4-B2E7-46F5-A276-1D6D1826BC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C:\Documents and Settings\ECE\My Documents\suresh\Composite V 002.jpg"/>
          <p:cNvPicPr/>
          <p:nvPr/>
        </p:nvPicPr>
        <p:blipFill>
          <a:blip r:embed="rId1"/>
          <a:stretch/>
        </p:blipFill>
        <p:spPr>
          <a:xfrm>
            <a:off x="214200" y="214200"/>
            <a:ext cx="8929800" cy="6429600"/>
          </a:xfrm>
          <a:prstGeom prst="rect">
            <a:avLst/>
          </a:prstGeom>
          <a:ln w="0">
            <a:noFill/>
          </a:ln>
        </p:spPr>
      </p:pic>
      <p:sp>
        <p:nvSpPr>
          <p:cNvPr id="8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EE3A6-8476-4165-82A5-D897C389033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2" descr="C:\Documents and Settings\ECE\My Documents\suresh\Composite V 003.jpg"/>
          <p:cNvPicPr/>
          <p:nvPr/>
        </p:nvPicPr>
        <p:blipFill>
          <a:blip r:embed="rId1"/>
          <a:stretch/>
        </p:blipFill>
        <p:spPr>
          <a:xfrm>
            <a:off x="214200" y="214200"/>
            <a:ext cx="8715600" cy="6429600"/>
          </a:xfrm>
          <a:prstGeom prst="rect">
            <a:avLst/>
          </a:prstGeom>
          <a:ln w="0">
            <a:noFill/>
          </a:ln>
        </p:spPr>
      </p:pic>
      <p:sp>
        <p:nvSpPr>
          <p:cNvPr id="8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694B1-9447-4DB2-80BC-91F2C941712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http://www.curtpalme.com/images/+electrostatic.png"/>
          <p:cNvPicPr/>
          <p:nvPr/>
        </p:nvPicPr>
        <p:blipFill>
          <a:blip r:embed="rId1"/>
          <a:stretch/>
        </p:blipFill>
        <p:spPr>
          <a:xfrm>
            <a:off x="642960" y="642960"/>
            <a:ext cx="8072280" cy="5643720"/>
          </a:xfrm>
          <a:prstGeom prst="rect">
            <a:avLst/>
          </a:prstGeom>
          <a:ln w="0">
            <a:noFill/>
          </a:ln>
        </p:spPr>
      </p:pic>
      <p:sp>
        <p:nvSpPr>
          <p:cNvPr id="9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EEBDC-F113-438C-B19D-2F89FCC026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E:\T S R\CMS\Unit 2\08_burn_free.jpg"/>
          <p:cNvPicPr/>
          <p:nvPr/>
        </p:nvPicPr>
        <p:blipFill>
          <a:blip r:embed="rId1"/>
          <a:stretch/>
        </p:blipFill>
        <p:spPr>
          <a:xfrm>
            <a:off x="571680" y="428760"/>
            <a:ext cx="7786440" cy="6000480"/>
          </a:xfrm>
          <a:prstGeom prst="rect">
            <a:avLst/>
          </a:prstGeom>
          <a:ln w="0">
            <a:noFill/>
          </a:ln>
        </p:spPr>
      </p:pic>
      <p:sp>
        <p:nvSpPr>
          <p:cNvPr id="9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8A68E-E98C-47BC-9F18-BA9E08C45C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ECE\My Documents\suresh\Composite V 004.jpg"/>
          <p:cNvPicPr/>
          <p:nvPr/>
        </p:nvPicPr>
        <p:blipFill>
          <a:blip r:embed="rId1"/>
          <a:stretch/>
        </p:blipFill>
        <p:spPr>
          <a:xfrm rot="60000">
            <a:off x="213840" y="285480"/>
            <a:ext cx="8715600" cy="6286320"/>
          </a:xfrm>
          <a:prstGeom prst="rect">
            <a:avLst/>
          </a:prstGeom>
          <a:ln w="0">
            <a:noFill/>
          </a:ln>
        </p:spPr>
      </p:pic>
      <p:sp>
        <p:nvSpPr>
          <p:cNvPr id="101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9095C-E005-49D0-84AF-A70B29D2A0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"/>
          <p:cNvPicPr/>
          <p:nvPr/>
        </p:nvPicPr>
        <p:blipFill>
          <a:blip r:embed="rId1"/>
          <a:stretch/>
        </p:blipFill>
        <p:spPr>
          <a:xfrm>
            <a:off x="857160" y="928800"/>
            <a:ext cx="7000920" cy="5286240"/>
          </a:xfrm>
          <a:prstGeom prst="rect">
            <a:avLst/>
          </a:prstGeom>
          <a:ln w="0">
            <a:noFill/>
          </a:ln>
        </p:spPr>
      </p:pic>
      <p:sp>
        <p:nvSpPr>
          <p:cNvPr id="105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9EB7E-931F-4FAF-9952-ACE785EA5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2" descr="C:\Documents and Settings\ECE\My Documents\suresh\Composite V 007.jpg"/>
          <p:cNvPicPr/>
          <p:nvPr/>
        </p:nvPicPr>
        <p:blipFill>
          <a:blip r:embed="rId1"/>
          <a:stretch/>
        </p:blipFill>
        <p:spPr>
          <a:xfrm>
            <a:off x="428760" y="214200"/>
            <a:ext cx="8358120" cy="6215040"/>
          </a:xfrm>
          <a:prstGeom prst="rect">
            <a:avLst/>
          </a:prstGeom>
          <a:ln w="0">
            <a:noFill/>
          </a:ln>
        </p:spPr>
      </p:pic>
      <p:sp>
        <p:nvSpPr>
          <p:cNvPr id="109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A172-4386-499F-8D39-AF6ECAF185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2" descr=""/>
          <p:cNvPicPr/>
          <p:nvPr/>
        </p:nvPicPr>
        <p:blipFill>
          <a:blip r:embed="rId1"/>
          <a:stretch/>
        </p:blipFill>
        <p:spPr>
          <a:xfrm>
            <a:off x="642960" y="928800"/>
            <a:ext cx="7358040" cy="5072040"/>
          </a:xfrm>
          <a:prstGeom prst="rect">
            <a:avLst/>
          </a:prstGeom>
          <a:ln w="0">
            <a:noFill/>
          </a:ln>
        </p:spPr>
      </p:pic>
      <p:sp>
        <p:nvSpPr>
          <p:cNvPr id="11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E3379-0DC9-4418-ABDB-C3DB08B4B4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2" descr=""/>
          <p:cNvPicPr/>
          <p:nvPr/>
        </p:nvPicPr>
        <p:blipFill>
          <a:blip r:embed="rId1"/>
          <a:stretch/>
        </p:blipFill>
        <p:spPr>
          <a:xfrm>
            <a:off x="785880" y="1143000"/>
            <a:ext cx="7715160" cy="4929120"/>
          </a:xfrm>
          <a:prstGeom prst="rect">
            <a:avLst/>
          </a:prstGeom>
          <a:ln w="0">
            <a:noFill/>
          </a:ln>
        </p:spPr>
      </p:pic>
      <p:sp>
        <p:nvSpPr>
          <p:cNvPr id="11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BA0E1-D024-4F69-A3EF-A9AEAB837A8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76320" y="1219320"/>
            <a:ext cx="899136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Berlin Sans FB"/>
              </a:rPr>
              <a:t>EC 326 COMMUNICATION SYSTEMS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Baskerville Old Face"/>
              </a:rPr>
              <a:t>UNIT - III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400" y="3276360"/>
            <a:ext cx="7238880" cy="236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Monotype Corsiva"/>
              </a:rPr>
              <a:t>T Srinivasa Rao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Dept. of EC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504d"/>
                </a:solidFill>
                <a:latin typeface="Monotype Corsiva"/>
              </a:rPr>
              <a:t>Bapatla Engineering Colleg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304920" y="1219320"/>
            <a:ext cx="8381880" cy="5029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2"/>
          <p:cNvSpPr/>
          <p:nvPr/>
        </p:nvSpPr>
        <p:spPr>
          <a:xfrm>
            <a:off x="914400" y="38088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Vidicon camera tube cross-se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4561E-62AE-4C50-A3D5-077D059B94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238880" cy="54100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228600" y="228600"/>
            <a:ext cx="8686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Circuit for output signal from a Vidicon camera tu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5DFE4-A7D2-404A-ADAE-A3A2E86AD8B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"/>
          <p:cNvPicPr/>
          <p:nvPr/>
        </p:nvPicPr>
        <p:blipFill>
          <a:blip r:embed="rId1"/>
          <a:stretch/>
        </p:blipFill>
        <p:spPr>
          <a:xfrm>
            <a:off x="1066680" y="1219320"/>
            <a:ext cx="6934320" cy="548640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2"/>
          <p:cNvSpPr/>
          <p:nvPr/>
        </p:nvSpPr>
        <p:spPr>
          <a:xfrm>
            <a:off x="685800" y="4572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Berlin Sans FB"/>
              </a:rPr>
              <a:t>Leaky Capacitor Conce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8B30F-32C8-4B4C-AF17-D9006255D72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"/>
          <p:cNvSpPr/>
          <p:nvPr/>
        </p:nvSpPr>
        <p:spPr>
          <a:xfrm>
            <a:off x="990720" y="380880"/>
            <a:ext cx="647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THE PLUMBIC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686800" cy="4724280"/>
          </a:xfrm>
          <a:prstGeom prst="rect">
            <a:avLst/>
          </a:prstGeom>
          <a:ln w="0">
            <a:noFill/>
          </a:ln>
        </p:spPr>
      </p:pic>
      <p:sp>
        <p:nvSpPr>
          <p:cNvPr id="137" name="Rectangle 3"/>
          <p:cNvSpPr/>
          <p:nvPr/>
        </p:nvSpPr>
        <p:spPr>
          <a:xfrm>
            <a:off x="228600" y="5791320"/>
            <a:ext cx="891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Target Details             Output Signal Current                  Characteri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EE74D-C536-4914-A722-B8F55B0A745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1218E-6ABA-4DAB-8EE4-400976B9B79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657600" cy="440064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3429000" y="380880"/>
            <a:ext cx="5257800" cy="35816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3"/>
          <p:cNvSpPr/>
          <p:nvPr/>
        </p:nvSpPr>
        <p:spPr>
          <a:xfrm>
            <a:off x="609480" y="4495680"/>
            <a:ext cx="281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A sync generator driv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several camera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4"/>
          <p:cNvSpPr/>
          <p:nvPr/>
        </p:nvSpPr>
        <p:spPr>
          <a:xfrm>
            <a:off x="4191120" y="44197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Berlin Sans FB"/>
              </a:rPr>
              <a:t>Switcher for selecting any camera output to one monito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Date Placeholder 5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18A47-CD48-4234-8D50-EBFAF8629B5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Footer Placeholder 7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761B-55DA-493A-A35C-7840B08581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5"/>
          <p:cNvSpPr/>
          <p:nvPr/>
        </p:nvSpPr>
        <p:spPr>
          <a:xfrm>
            <a:off x="0" y="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Block diagram of a drive and sync pulse gener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Date Placeholder 1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Footer Placeholder 2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CC67D-E2F3-4D56-8E83-44B46CB4A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571500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5"/>
          <p:cNvSpPr/>
          <p:nvPr/>
        </p:nvSpPr>
        <p:spPr>
          <a:xfrm>
            <a:off x="0" y="380880"/>
            <a:ext cx="8915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Block Diagram of a Television Transmit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715600" cy="571500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2"/>
          <p:cNvSpPr/>
          <p:nvPr/>
        </p:nvSpPr>
        <p:spPr>
          <a:xfrm>
            <a:off x="357120" y="214200"/>
            <a:ext cx="8786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Berlin Sans FB"/>
              </a:rPr>
              <a:t>Rear view of a black and white receiver with the back remo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1031A-0109-4603-A942-E7CCB99509E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5720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2"/>
          <p:cNvSpPr/>
          <p:nvPr/>
        </p:nvSpPr>
        <p:spPr>
          <a:xfrm>
            <a:off x="285840" y="214200"/>
            <a:ext cx="857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Block diagram of a monochrome television recei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FEFCA-D043-409E-993E-8DB4E60ACE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ision characteristics and scanning systems, Composite video signa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2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mera tubes: Principle of operation, Image Orthicon, Vidicon, Plumbicon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Part 3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 cast TV transmit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lock diagram of broadcast TV receiver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99F3E-37A6-44D1-B786-02EA12BF01A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"/>
          <p:cNvPicPr/>
          <p:nvPr/>
        </p:nvPicPr>
        <p:blipFill>
          <a:blip r:embed="rId1"/>
          <a:stretch/>
        </p:blipFill>
        <p:spPr>
          <a:xfrm>
            <a:off x="500040" y="714240"/>
            <a:ext cx="7643880" cy="5072040"/>
          </a:xfrm>
          <a:prstGeom prst="rect">
            <a:avLst/>
          </a:prstGeom>
          <a:ln w="0">
            <a:noFill/>
          </a:ln>
        </p:spPr>
      </p:pic>
      <p:sp>
        <p:nvSpPr>
          <p:cNvPr id="17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992A2-2496-427B-833F-D6B42E59C9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85840" y="274320"/>
            <a:ext cx="8400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CHOICE OF INTERMEDIATE FREQUENCY IN T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Calibri"/>
              </a:rPr>
              <a:t>(i) 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Image Rejection Rat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i) Pick-up Due to Local Oscillator Radiation from TV Receiv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ii) Ease of Separation of Modulating Signal from IF Carrier at the Demodul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iv) Image Frequencies Should Not Lie in the FM Ba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v) Interference or Direct Pick-Up from Bands Assigned for other Ser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(vi) Gai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18696-03E5-4E8A-AF32-24E6602FB9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V S B CORREC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2" name="Picture 3" descr=""/>
          <p:cNvPicPr/>
          <p:nvPr/>
        </p:nvPicPr>
        <p:blipFill>
          <a:blip r:embed="rId1"/>
          <a:stretch/>
        </p:blipFill>
        <p:spPr>
          <a:xfrm>
            <a:off x="571680" y="1428840"/>
            <a:ext cx="7858080" cy="5143320"/>
          </a:xfrm>
          <a:prstGeom prst="rect">
            <a:avLst/>
          </a:prstGeom>
          <a:ln w="0">
            <a:noFill/>
          </a:ln>
        </p:spPr>
      </p:pic>
      <p:sp>
        <p:nvSpPr>
          <p:cNvPr id="183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F0B12-5ABF-4D41-B63D-C42591BC00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VIDEO DETECTO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2" descr=""/>
          <p:cNvPicPr/>
          <p:nvPr/>
        </p:nvPicPr>
        <p:blipFill>
          <a:blip r:embed="rId1"/>
          <a:stretch/>
        </p:blipFill>
        <p:spPr>
          <a:xfrm>
            <a:off x="1571760" y="1285920"/>
            <a:ext cx="6072120" cy="26431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3" descr=""/>
          <p:cNvPicPr/>
          <p:nvPr/>
        </p:nvPicPr>
        <p:blipFill>
          <a:blip r:embed="rId2"/>
          <a:stretch/>
        </p:blipFill>
        <p:spPr>
          <a:xfrm>
            <a:off x="1500120" y="4214880"/>
            <a:ext cx="6153120" cy="2433600"/>
          </a:xfrm>
          <a:prstGeom prst="rect">
            <a:avLst/>
          </a:prstGeom>
          <a:ln w="0">
            <a:noFill/>
          </a:ln>
        </p:spPr>
      </p:pic>
      <p:sp>
        <p:nvSpPr>
          <p:cNvPr id="189" name="Date Placeholder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B8F03-29C1-4616-9E0C-8FD54D1FDF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Footer Placeholder 6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Berlin Sans FB"/>
              </a:rPr>
              <a:t>Detector and filter circuit of a radio recei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714240" y="1071720"/>
            <a:ext cx="7643880" cy="5286240"/>
          </a:xfrm>
          <a:prstGeom prst="rect">
            <a:avLst/>
          </a:prstGeom>
          <a:ln w="0">
            <a:noFill/>
          </a:ln>
        </p:spPr>
      </p:pic>
      <p:sp>
        <p:nvSpPr>
          <p:cNvPr id="19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4914E-8166-40AB-BE4F-6903B12AFBC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REQUIR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71280" y="999720"/>
            <a:ext cx="900144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a) The detector load must provide a suitable impedance as seen through the diode, at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put of the detector to tune and damp secondary of the last IF coupling circuit correctly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b) The detector load must remove from the output, the IF content in the signal as much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 possible. For this purpose the load usually includes one or two low-pass filter sec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c) The detector load should have a trap circuit (a series rejector circuit) for separating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intercarrier sound sig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d) The detector load must also include a provision to boost the higher video frequencie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compensate for the loss due to input capacitance of the video amplifier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8A86A-14EF-4FA7-B91E-487D9502A89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Berlin Sans FB"/>
              </a:rPr>
              <a:t>FUNCTIONS OF THE COMPOSITE VIDEO SIGNA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3" name="Picture 2" descr=""/>
          <p:cNvPicPr/>
          <p:nvPr/>
        </p:nvPicPr>
        <p:blipFill>
          <a:blip r:embed="rId1"/>
          <a:stretch/>
        </p:blipFill>
        <p:spPr>
          <a:xfrm>
            <a:off x="642960" y="1571760"/>
            <a:ext cx="7643880" cy="4714920"/>
          </a:xfrm>
          <a:prstGeom prst="rect">
            <a:avLst/>
          </a:prstGeom>
          <a:ln w="0">
            <a:noFill/>
          </a:ln>
        </p:spPr>
      </p:pic>
      <p:sp>
        <p:nvSpPr>
          <p:cNvPr id="20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6E593-57AA-486F-BA06-5D579E5BB9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SOUND SIGNAL SEPARAT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8" name="Picture 2" descr=""/>
          <p:cNvPicPr/>
          <p:nvPr/>
        </p:nvPicPr>
        <p:blipFill>
          <a:blip r:embed="rId1"/>
          <a:stretch/>
        </p:blipFill>
        <p:spPr>
          <a:xfrm>
            <a:off x="162000" y="1714680"/>
            <a:ext cx="8767800" cy="4410000"/>
          </a:xfrm>
          <a:prstGeom prst="rect">
            <a:avLst/>
          </a:prstGeom>
          <a:ln w="0">
            <a:noFill/>
          </a:ln>
        </p:spPr>
      </p:pic>
      <p:sp>
        <p:nvSpPr>
          <p:cNvPr id="20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C3DCE-3E75-4EA5-BB63-B25B393A840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Block diagram of AGC 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3" name="Picture 2" descr=""/>
          <p:cNvPicPr/>
          <p:nvPr/>
        </p:nvPicPr>
        <p:blipFill>
          <a:blip r:embed="rId1"/>
          <a:stretch/>
        </p:blipFill>
        <p:spPr>
          <a:xfrm>
            <a:off x="357120" y="1714680"/>
            <a:ext cx="8286840" cy="4572000"/>
          </a:xfrm>
          <a:prstGeom prst="rect">
            <a:avLst/>
          </a:prstGeom>
          <a:ln w="0">
            <a:noFill/>
          </a:ln>
        </p:spPr>
      </p:pic>
      <p:sp>
        <p:nvSpPr>
          <p:cNvPr id="21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172E8-7CBA-44C1-AFA3-472547EFD02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High Voltage (EHT) Suppl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tretch/>
        </p:blipFill>
        <p:spPr>
          <a:xfrm>
            <a:off x="428760" y="1571760"/>
            <a:ext cx="8143920" cy="5000400"/>
          </a:xfrm>
          <a:prstGeom prst="rect">
            <a:avLst/>
          </a:prstGeom>
          <a:ln w="0">
            <a:noFill/>
          </a:ln>
        </p:spPr>
      </p:pic>
      <p:sp>
        <p:nvSpPr>
          <p:cNvPr id="21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49C0A-B435-41A7-A264-0646434E2D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19288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Simplified cross-sectional view of a Vidicon TV camera tub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FA3BC-5DC9-44BA-8725-9A072F14AE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Deflection Circu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3" name="Picture 2" descr=""/>
          <p:cNvPicPr/>
          <p:nvPr/>
        </p:nvPicPr>
        <p:blipFill>
          <a:blip r:embed="rId1"/>
          <a:stretch/>
        </p:blipFill>
        <p:spPr>
          <a:xfrm>
            <a:off x="525600" y="2000160"/>
            <a:ext cx="8494560" cy="3929040"/>
          </a:xfrm>
          <a:prstGeom prst="rect">
            <a:avLst/>
          </a:prstGeom>
          <a:ln w="0">
            <a:noFill/>
          </a:ln>
        </p:spPr>
      </p:pic>
      <p:sp>
        <p:nvSpPr>
          <p:cNvPr id="22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C2B22-B41B-4FC9-8CA4-4D7A284E20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2" descr=""/>
          <p:cNvPicPr/>
          <p:nvPr/>
        </p:nvPicPr>
        <p:blipFill>
          <a:blip r:embed="rId1"/>
          <a:stretch/>
        </p:blipFill>
        <p:spPr>
          <a:xfrm>
            <a:off x="1071720" y="357120"/>
            <a:ext cx="6858000" cy="300060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4" descr=""/>
          <p:cNvPicPr/>
          <p:nvPr/>
        </p:nvPicPr>
        <p:blipFill>
          <a:blip r:embed="rId2"/>
          <a:stretch/>
        </p:blipFill>
        <p:spPr>
          <a:xfrm>
            <a:off x="857160" y="3643200"/>
            <a:ext cx="7286760" cy="3143520"/>
          </a:xfrm>
          <a:prstGeom prst="rect">
            <a:avLst/>
          </a:prstGeom>
          <a:ln w="0">
            <a:noFill/>
          </a:ln>
        </p:spPr>
      </p:pic>
      <p:sp>
        <p:nvSpPr>
          <p:cNvPr id="22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ADBDA-015F-49DD-9B2C-5C940C8062E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Berlin Sans FB"/>
              </a:rPr>
              <a:t>Operating Controls of a T V Receiver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28840"/>
            <a:ext cx="8229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nel Sele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ne Tun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olu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ra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ght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ertical H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orizontal Hold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9E97-2B38-47CB-BF15-89922D70F0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 rot="20378400">
            <a:off x="-58320" y="2918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Berlin Sans FB"/>
              </a:rPr>
              <a:t>Next…</a:t>
            </a:r>
            <a:br>
              <a:rPr sz="8000"/>
            </a:br>
            <a:r>
              <a:rPr b="0" lang="en-US" sz="8000" spc="-1" strike="noStrike">
                <a:solidFill>
                  <a:srgbClr val="1e03bd"/>
                </a:solidFill>
                <a:latin typeface="Berlin Sans FB"/>
              </a:rPr>
              <a:t>Colour Television…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679E2-C794-4D87-B4C2-7DC2C902F9F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0" y="1428840"/>
            <a:ext cx="9144000" cy="5429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Elements of a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C013F-039D-4537-B491-CCB85B21E7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"/>
          <p:cNvPicPr/>
          <p:nvPr/>
        </p:nvPicPr>
        <p:blipFill>
          <a:blip r:embed="rId1"/>
          <a:stretch/>
        </p:blipFill>
        <p:spPr>
          <a:xfrm>
            <a:off x="0" y="2000160"/>
            <a:ext cx="9144000" cy="43578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14200" y="274320"/>
            <a:ext cx="87156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Signal transmission paths illustrating compatibility between col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and monochrome TV system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Berlin Sans FB"/>
              </a:rPr>
              <a:t>R, G and B represent three camera tubes which develop video signals corresponding to the red, green and blue contents of the scene being televise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158B3-26FB-4505-9B2A-12F7242F90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Berlin Sans FB"/>
              </a:rPr>
              <a:t>A Rectangular Picture Tub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"/>
          <p:cNvPicPr/>
          <p:nvPr/>
        </p:nvPicPr>
        <p:blipFill>
          <a:blip r:embed="rId1"/>
          <a:stretch/>
        </p:blipFill>
        <p:spPr>
          <a:xfrm>
            <a:off x="1214280" y="1571760"/>
            <a:ext cx="6786720" cy="5072040"/>
          </a:xfrm>
          <a:prstGeom prst="rect">
            <a:avLst/>
          </a:prstGeom>
          <a:ln w="0">
            <a:noFill/>
          </a:ln>
        </p:spPr>
      </p:pic>
      <p:sp>
        <p:nvSpPr>
          <p:cNvPr id="6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41669-6EE6-459F-A0A5-B3C79604C1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nochrome Picture Tub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Electron Gu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inuous phosphor coa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Colour </a:t>
            </a:r>
            <a:r>
              <a:rPr b="0" lang="en-US" sz="3200" spc="-1" strike="noStrike">
                <a:solidFill>
                  <a:srgbClr val="00b050"/>
                </a:solidFill>
                <a:latin typeface="Calibri"/>
              </a:rPr>
              <a:t>Picture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Tub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electron bea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e phosphor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439B9-4C04-408F-8492-3DC28F78B84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Documents and Settings\ECE\My Documents\suresh\Composite V 001.jpg"/>
          <p:cNvPicPr/>
          <p:nvPr/>
        </p:nvPicPr>
        <p:blipFill>
          <a:blip r:embed="rId1"/>
          <a:stretch/>
        </p:blipFill>
        <p:spPr>
          <a:xfrm rot="21540000">
            <a:off x="282600" y="214200"/>
            <a:ext cx="8647200" cy="6431040"/>
          </a:xfrm>
          <a:prstGeom prst="rect">
            <a:avLst/>
          </a:prstGeom>
          <a:ln w="0">
            <a:noFill/>
          </a:ln>
        </p:spPr>
      </p:pic>
      <p:sp>
        <p:nvSpPr>
          <p:cNvPr id="77" name="Date Placeholder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2B855-A989-42BC-A33F-5B4CB1ACBC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Communication Systems (EC-32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0T02:37:22Z</dcterms:created>
  <dc:creator>T Srinivasa Rao</dc:creator>
  <dc:description/>
  <dc:language>en-US</dc:language>
  <cp:lastModifiedBy>T Srinivasa Rao</cp:lastModifiedBy>
  <dcterms:modified xsi:type="dcterms:W3CDTF">2010-01-30T02:44:51Z</dcterms:modified>
  <cp:revision>4</cp:revision>
  <dc:subject/>
  <dc:title> TELEVISION</dc:title>
</cp:coreProperties>
</file>