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E9A8-E20F-4C94-9C45-B7CD4AC41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232F-44EB-4B95-A425-A172B4E15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49EF-BAB2-4D2D-B260-A4BD1B481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3520" y="58896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87B0-7736-4626-8D42-897E9489C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0962-E5AD-4FDF-BF08-41696C4FF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3520" y="588960"/>
            <a:ext cx="4545000" cy="3408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FD4A-6E0C-4B98-A381-72A5631F4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63520" y="588960"/>
            <a:ext cx="4545000" cy="3408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E5C7-C6AA-4FE5-9B68-5CA7F6E33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63520" y="588960"/>
            <a:ext cx="4545000" cy="3408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B8A5-8F94-4219-B429-19A79591A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63520" y="588960"/>
            <a:ext cx="4545000" cy="3408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DE7-C85E-41E6-967D-35FCBAAC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897-0967-4447-9B69-D229EE6D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488-265C-473C-BDC5-EB52868A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078-9C4C-462B-9071-6600E0E7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FD4-5BDA-44BA-9EE6-AF52699D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AC67-B043-4399-B79D-E9E62AA6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2E2-1E67-4052-8B92-39A0E833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233-B087-489B-B891-982BA17F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2CB-8F8A-4EBC-8419-C9F5B441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F356-2833-4C11-8F91-5908CA4E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973-38AD-4116-A568-DD3120A0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A93-06A9-46C2-9107-2188DC07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93B0-B311-4DD6-B2D9-A86565779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20378400">
            <a:off x="522000" y="2577600"/>
            <a:ext cx="8004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Berlin Sans FB"/>
              </a:rPr>
              <a:t>T</a:t>
            </a:r>
            <a:r>
              <a:rPr b="0" lang="en-US" sz="6500" spc="-1" strike="noStrike">
                <a:solidFill>
                  <a:srgbClr val="ff0000"/>
                </a:solidFill>
                <a:latin typeface="Berlin Sans FB"/>
              </a:rPr>
              <a:t>ELEVISION - 1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C672-46C0-4707-A71C-2E985DF8B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4357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Signal transmission paths illustrating compatibility between colo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and monochrome TV system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R, G and B represent three camera tubes which develop video signals corresponding to the red, green and blue contents of the scene being telev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B35E-02FA-4D91-A264-40F1AB822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Television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57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굴림"/>
              </a:rPr>
              <a:t>NTSC 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5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(National Television Standards Committee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57080" indent="-561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tandard for U.S., Japan, and Ko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57080" indent="-561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4 X 3 Aspect Rat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57080" indent="-561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525 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57080" indent="-561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30 Frame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57080" indent="-561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canned in "Fields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5E7F-2E7C-45E8-AE8C-22537D494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굴림"/>
              </a:rPr>
              <a:t>PAL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(Phase Alternating Line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nother World Television Standard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4 X 3 Aspect Rat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625 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25 Frame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canned in "Fields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There are Slight Variations: PAL-B, -G, -H, -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Used in Continental Europe and Parts of Africa, Middle East &amp; So.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More Lines = Better Re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Fewer Frames/Fields = More "Flicker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AAD7-630A-4062-A72B-2A24D55E8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굴림"/>
              </a:rPr>
              <a:t>SECAM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(Sequential Color and Memo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nother World Television Standard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4 X 3 Aspect Rat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625 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25 Frame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canned in "Fields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Used in France, Eastern Europe and Parts of the Middle East &amp;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More Lines = Better Re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Fewer Frames/Fields = More "Flicker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DAD5-7AD5-466E-8FED-3B513FB38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굴림"/>
              </a:rPr>
              <a:t>HDTV System (High Definition Television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굴림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16 X 9 Aspect Rat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Digit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ermits Several Levels of Picture Resolution Similar to that of High-Quality Computer Monitors, With 720 or 1080 Lines (1280 x 720 pixels or 1920 x 1080 pixe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Ranges from 24 to 60 frames per second, progressive or interlaced s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Uses MPEG-2 Compression to squeeze a 19 megabit-per-second data flow so that it can be accommodated by a standard broadcast TV channel of 6 MHz bandwid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5.1 Channels of Dolby AC-3 Digital Surround-Sound Aud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9C64-02FF-467D-88C1-63F9E46E8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00400" y="182160"/>
            <a:ext cx="5410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Vidicon TV Pick-up Tub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657600" y="3137040"/>
            <a:ext cx="5295960" cy="3454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3124080" cy="2219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228600" y="380880"/>
            <a:ext cx="2705040" cy="3571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4"/>
          <a:stretch/>
        </p:blipFill>
        <p:spPr>
          <a:xfrm>
            <a:off x="3429000" y="838080"/>
            <a:ext cx="5210280" cy="2181240"/>
          </a:xfrm>
          <a:prstGeom prst="rect">
            <a:avLst/>
          </a:prstGeom>
          <a:ln w="0">
            <a:noFill/>
          </a:ln>
        </p:spPr>
      </p:pic>
      <p:sp>
        <p:nvSpPr>
          <p:cNvPr id="116" name="Date Placeholder 6"/>
          <p:cNvSpPr/>
          <p:nvPr/>
        </p:nvSpPr>
        <p:spPr>
          <a:xfrm>
            <a:off x="4572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E8C8-1BF7-4E6D-85C6-785142244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8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Basic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 ( Aspect ratio – 4:3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ity ( 25 FPS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nning lines (860 x 0.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icker ( Interlaced Scann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lution ( Vertical &amp; Horizont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fa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267E-0826-4F42-98D4-5A43EDE28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levision Sc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2560" y="714240"/>
            <a:ext cx="90010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am scanning for standard T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25 lines in total 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5 images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scanned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cil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t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5497560" y="3822840"/>
            <a:ext cx="2125440" cy="1568160"/>
          </a:xfrm>
          <a:prstGeom prst="roundRect">
            <a:avLst>
              <a:gd name="adj" fmla="val 12495"/>
            </a:avLst>
          </a:prstGeom>
          <a:solidFill>
            <a:srgbClr val="eeec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5207040" y="4064040"/>
            <a:ext cx="0" cy="1104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4265280" y="4302000"/>
            <a:ext cx="95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l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5905440" y="556272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6138720" y="5610240"/>
            <a:ext cx="1146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495760" y="4038480"/>
            <a:ext cx="2140200" cy="12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5495760" y="4243320"/>
            <a:ext cx="2140200" cy="12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5495760" y="4448160"/>
            <a:ext cx="2140200" cy="12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5495760" y="4654440"/>
            <a:ext cx="2140200" cy="123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5495760" y="4859280"/>
            <a:ext cx="2140200" cy="123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5495760" y="5064120"/>
            <a:ext cx="2140200" cy="12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000080" y="4143240"/>
            <a:ext cx="2138400" cy="1581120"/>
          </a:xfrm>
          <a:prstGeom prst="roundRect">
            <a:avLst>
              <a:gd name="adj" fmla="val 124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1004760" y="4352760"/>
            <a:ext cx="2140200" cy="12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1004760" y="4557600"/>
            <a:ext cx="2140200" cy="12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1004760" y="4762440"/>
            <a:ext cx="2140200" cy="12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1004760" y="4968720"/>
            <a:ext cx="2140200" cy="123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1004760" y="5173560"/>
            <a:ext cx="2140200" cy="123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004760" y="5378400"/>
            <a:ext cx="2140200" cy="12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992160" y="4454640"/>
            <a:ext cx="2139840" cy="12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992160" y="4657680"/>
            <a:ext cx="2139840" cy="12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992160" y="4873680"/>
            <a:ext cx="2139840" cy="12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992160" y="5089680"/>
            <a:ext cx="2139840" cy="12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5"/>
          <p:cNvSpPr/>
          <p:nvPr/>
        </p:nvSpPr>
        <p:spPr>
          <a:xfrm>
            <a:off x="992160" y="5280120"/>
            <a:ext cx="2139840" cy="12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ate Placeholder 2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C889-B1C1-425A-9A0F-74E4B58F8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2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crt"/>
          <p:cNvPicPr/>
          <p:nvPr/>
        </p:nvPicPr>
        <p:blipFill>
          <a:blip r:embed="rId1"/>
          <a:stretch/>
        </p:blipFill>
        <p:spPr>
          <a:xfrm>
            <a:off x="214200" y="1071720"/>
            <a:ext cx="4525920" cy="4640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:\Books\Buks\CMS\TV\Jan31\School of Informatics Teaching Modul es Computer Graphics_files\fig008.jpg"/>
          <p:cNvPicPr/>
          <p:nvPr/>
        </p:nvPicPr>
        <p:blipFill>
          <a:blip r:embed="rId2"/>
          <a:stretch/>
        </p:blipFill>
        <p:spPr>
          <a:xfrm>
            <a:off x="4913280" y="1122480"/>
            <a:ext cx="4029120" cy="4608360"/>
          </a:xfrm>
          <a:prstGeom prst="rect">
            <a:avLst/>
          </a:prstGeom>
          <a:ln w="0">
            <a:noFill/>
          </a:ln>
        </p:spPr>
      </p:pic>
      <p:sp>
        <p:nvSpPr>
          <p:cNvPr id="15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29C9-D213-458D-9569-7643D8541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V Interla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61976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a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canned in two passes, first the odd lines then the ev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e frame takes 1/25th sec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s flic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pass called 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e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kes 1/50th sec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409760" y="4267080"/>
            <a:ext cx="7734240" cy="2374920"/>
          </a:xfrm>
          <a:prstGeom prst="rect">
            <a:avLst/>
          </a:prstGeom>
          <a:solidFill>
            <a:srgbClr val="8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3"/>
          <p:cNvSpPr/>
          <p:nvPr/>
        </p:nvSpPr>
        <p:spPr>
          <a:xfrm>
            <a:off x="1464480" y="4330800"/>
            <a:ext cx="207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st  Field (Odd l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4"/>
          <p:cNvSpPr/>
          <p:nvPr/>
        </p:nvSpPr>
        <p:spPr>
          <a:xfrm>
            <a:off x="3990240" y="4330800"/>
            <a:ext cx="215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nd Field (Even l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5"/>
          <p:cNvSpPr/>
          <p:nvPr/>
        </p:nvSpPr>
        <p:spPr>
          <a:xfrm>
            <a:off x="3671640" y="5187960"/>
            <a:ext cx="387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6"/>
          <p:cNvSpPr/>
          <p:nvPr/>
        </p:nvSpPr>
        <p:spPr>
          <a:xfrm>
            <a:off x="6389640" y="5251320"/>
            <a:ext cx="387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7"/>
          <p:cNvSpPr/>
          <p:nvPr/>
        </p:nvSpPr>
        <p:spPr>
          <a:xfrm>
            <a:off x="3570120" y="4235400"/>
            <a:ext cx="387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8"/>
          <p:cNvSpPr/>
          <p:nvPr/>
        </p:nvSpPr>
        <p:spPr>
          <a:xfrm>
            <a:off x="6338880" y="4235400"/>
            <a:ext cx="387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9"/>
          <p:cNvSpPr/>
          <p:nvPr/>
        </p:nvSpPr>
        <p:spPr>
          <a:xfrm>
            <a:off x="7291800" y="4330800"/>
            <a:ext cx="126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Fr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5"/>
          <p:cNvGrpSpPr/>
          <p:nvPr/>
        </p:nvGrpSpPr>
        <p:grpSpPr>
          <a:xfrm>
            <a:off x="1401840" y="4743360"/>
            <a:ext cx="2144520" cy="1945080"/>
            <a:chOff x="1401840" y="4743360"/>
            <a:chExt cx="2144520" cy="1945080"/>
          </a:xfrm>
        </p:grpSpPr>
        <p:grpSp>
          <p:nvGrpSpPr>
            <p:cNvPr id="169" name="Group 43"/>
            <p:cNvGrpSpPr/>
            <p:nvPr/>
          </p:nvGrpSpPr>
          <p:grpSpPr>
            <a:xfrm>
              <a:off x="1401840" y="4743360"/>
              <a:ext cx="2144520" cy="1581120"/>
              <a:chOff x="1401840" y="4743360"/>
              <a:chExt cx="2144520" cy="1581120"/>
            </a:xfrm>
          </p:grpSpPr>
          <p:sp>
            <p:nvSpPr>
              <p:cNvPr id="170" name="AutoShape 5"/>
              <p:cNvSpPr/>
              <p:nvPr/>
            </p:nvSpPr>
            <p:spPr>
              <a:xfrm>
                <a:off x="1401840" y="4743360"/>
                <a:ext cx="2138400" cy="1581120"/>
              </a:xfrm>
              <a:prstGeom prst="roundRect">
                <a:avLst>
                  <a:gd name="adj" fmla="val 12495"/>
                </a:avLst>
              </a:prstGeom>
              <a:solidFill>
                <a:srgbClr val="eeec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6"/>
              <p:cNvSpPr/>
              <p:nvPr/>
            </p:nvSpPr>
            <p:spPr>
              <a:xfrm>
                <a:off x="1406520" y="4952880"/>
                <a:ext cx="2139840" cy="12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7"/>
              <p:cNvSpPr/>
              <p:nvPr/>
            </p:nvSpPr>
            <p:spPr>
              <a:xfrm>
                <a:off x="1406520" y="5157720"/>
                <a:ext cx="2139840" cy="12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8"/>
              <p:cNvSpPr/>
              <p:nvPr/>
            </p:nvSpPr>
            <p:spPr>
              <a:xfrm>
                <a:off x="1406520" y="5362560"/>
                <a:ext cx="21398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9"/>
              <p:cNvSpPr/>
              <p:nvPr/>
            </p:nvSpPr>
            <p:spPr>
              <a:xfrm>
                <a:off x="1406520" y="5568840"/>
                <a:ext cx="21398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10"/>
              <p:cNvSpPr/>
              <p:nvPr/>
            </p:nvSpPr>
            <p:spPr>
              <a:xfrm>
                <a:off x="1406520" y="5773680"/>
                <a:ext cx="21398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1"/>
              <p:cNvSpPr/>
              <p:nvPr/>
            </p:nvSpPr>
            <p:spPr>
              <a:xfrm>
                <a:off x="1406520" y="5978520"/>
                <a:ext cx="21398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Rectangle 40"/>
            <p:cNvSpPr/>
            <p:nvPr/>
          </p:nvSpPr>
          <p:spPr>
            <a:xfrm>
              <a:off x="1882440" y="6321600"/>
              <a:ext cx="1227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/50th se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44"/>
          <p:cNvGrpSpPr/>
          <p:nvPr/>
        </p:nvGrpSpPr>
        <p:grpSpPr>
          <a:xfrm>
            <a:off x="4051440" y="4743360"/>
            <a:ext cx="2184120" cy="1957680"/>
            <a:chOff x="4051440" y="4743360"/>
            <a:chExt cx="2184120" cy="1957680"/>
          </a:xfrm>
        </p:grpSpPr>
        <p:sp>
          <p:nvSpPr>
            <p:cNvPr id="179" name="AutoShape 12"/>
            <p:cNvSpPr/>
            <p:nvPr/>
          </p:nvSpPr>
          <p:spPr>
            <a:xfrm>
              <a:off x="4068720" y="4743360"/>
              <a:ext cx="2138400" cy="1581120"/>
            </a:xfrm>
            <a:prstGeom prst="roundRect">
              <a:avLst>
                <a:gd name="adj" fmla="val 12495"/>
              </a:avLst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3"/>
            <p:cNvSpPr/>
            <p:nvPr/>
          </p:nvSpPr>
          <p:spPr>
            <a:xfrm>
              <a:off x="4062240" y="5045040"/>
              <a:ext cx="2151360" cy="13644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4"/>
            <p:cNvSpPr/>
            <p:nvPr/>
          </p:nvSpPr>
          <p:spPr>
            <a:xfrm>
              <a:off x="4073400" y="5261040"/>
              <a:ext cx="2151360" cy="13644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5"/>
            <p:cNvSpPr/>
            <p:nvPr/>
          </p:nvSpPr>
          <p:spPr>
            <a:xfrm>
              <a:off x="4086360" y="5477040"/>
              <a:ext cx="2149200" cy="13644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6"/>
            <p:cNvSpPr/>
            <p:nvPr/>
          </p:nvSpPr>
          <p:spPr>
            <a:xfrm>
              <a:off x="4051440" y="5648400"/>
              <a:ext cx="2151000" cy="13644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7"/>
            <p:cNvSpPr/>
            <p:nvPr/>
          </p:nvSpPr>
          <p:spPr>
            <a:xfrm>
              <a:off x="4073400" y="5864400"/>
              <a:ext cx="2151360" cy="13644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8"/>
            <p:cNvSpPr/>
            <p:nvPr/>
          </p:nvSpPr>
          <p:spPr>
            <a:xfrm>
              <a:off x="4086360" y="6126120"/>
              <a:ext cx="2058840" cy="13644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4536720" y="6334200"/>
              <a:ext cx="1227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/50th se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AutoShape 19"/>
          <p:cNvSpPr/>
          <p:nvPr/>
        </p:nvSpPr>
        <p:spPr>
          <a:xfrm>
            <a:off x="6781680" y="4724280"/>
            <a:ext cx="2138400" cy="1581120"/>
          </a:xfrm>
          <a:prstGeom prst="roundRect">
            <a:avLst>
              <a:gd name="adj" fmla="val 124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>
            <a:off x="6791400" y="4952880"/>
            <a:ext cx="2139840" cy="12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1"/>
          <p:cNvSpPr/>
          <p:nvPr/>
        </p:nvSpPr>
        <p:spPr>
          <a:xfrm>
            <a:off x="6791400" y="5157720"/>
            <a:ext cx="2139840" cy="12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2"/>
          <p:cNvSpPr/>
          <p:nvPr/>
        </p:nvSpPr>
        <p:spPr>
          <a:xfrm>
            <a:off x="6791400" y="5362560"/>
            <a:ext cx="2139840" cy="12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>
            <a:off x="6791400" y="5568840"/>
            <a:ext cx="2139840" cy="123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4"/>
          <p:cNvSpPr/>
          <p:nvPr/>
        </p:nvSpPr>
        <p:spPr>
          <a:xfrm>
            <a:off x="6791400" y="5773680"/>
            <a:ext cx="2139840" cy="123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5"/>
          <p:cNvSpPr/>
          <p:nvPr/>
        </p:nvSpPr>
        <p:spPr>
          <a:xfrm>
            <a:off x="6791400" y="5978520"/>
            <a:ext cx="2139840" cy="12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6"/>
          <p:cNvSpPr/>
          <p:nvPr/>
        </p:nvSpPr>
        <p:spPr>
          <a:xfrm>
            <a:off x="6780240" y="5045040"/>
            <a:ext cx="215100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7"/>
          <p:cNvSpPr/>
          <p:nvPr/>
        </p:nvSpPr>
        <p:spPr>
          <a:xfrm>
            <a:off x="6791400" y="5261040"/>
            <a:ext cx="215100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8"/>
          <p:cNvSpPr/>
          <p:nvPr/>
        </p:nvSpPr>
        <p:spPr>
          <a:xfrm>
            <a:off x="6804000" y="5477040"/>
            <a:ext cx="214956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9"/>
          <p:cNvSpPr/>
          <p:nvPr/>
        </p:nvSpPr>
        <p:spPr>
          <a:xfrm>
            <a:off x="6769080" y="5648400"/>
            <a:ext cx="215100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0"/>
          <p:cNvSpPr/>
          <p:nvPr/>
        </p:nvSpPr>
        <p:spPr>
          <a:xfrm>
            <a:off x="6791400" y="5864400"/>
            <a:ext cx="215100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6804000" y="6126120"/>
            <a:ext cx="205884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2"/>
          <p:cNvSpPr/>
          <p:nvPr/>
        </p:nvSpPr>
        <p:spPr>
          <a:xfrm>
            <a:off x="7191000" y="6346800"/>
            <a:ext cx="122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/25th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Date Placeholder 4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4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B3ED-309D-4206-8EC8-115665881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121932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"/>
              </a:rPr>
              <a:t>EC 326 COMMUNICATION SYSTEM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askerville Old Face"/>
              </a:rPr>
              <a:t>UNIT - I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2388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T Srinivasa Ra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Monotype Corsiva"/>
              </a:rPr>
              <a:t>Dept. of E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Monotype Corsiva"/>
              </a:rPr>
              <a:t>Bapatla Engineering Colle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H:\Books\Buks\CMS\TV\Jan31\interlaced-scan.jpg"/>
          <p:cNvPicPr/>
          <p:nvPr/>
        </p:nvPicPr>
        <p:blipFill>
          <a:blip r:embed="rId1"/>
          <a:stretch/>
        </p:blipFill>
        <p:spPr>
          <a:xfrm>
            <a:off x="2254320" y="1600200"/>
            <a:ext cx="4635360" cy="4525920"/>
          </a:xfrm>
          <a:prstGeom prst="rect">
            <a:avLst/>
          </a:prstGeom>
          <a:ln w="0">
            <a:noFill/>
          </a:ln>
        </p:spPr>
      </p:pic>
      <p:sp>
        <p:nvSpPr>
          <p:cNvPr id="2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44AE-483D-4D3C-AFD4-F2B8AA0E5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nchro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46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V Camera &amp; Monitor must be synchron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m at same place on 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sync pulses sent at end of each horizontal line &amp; vertical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rizontal ret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am returned to left side of sc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tical ret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am returned to the top of sc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ns off video during ret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6754680" y="4819680"/>
            <a:ext cx="2125800" cy="1568520"/>
          </a:xfrm>
          <a:prstGeom prst="roundRect">
            <a:avLst>
              <a:gd name="adj" fmla="val 12495"/>
            </a:avLst>
          </a:prstGeom>
          <a:solidFill>
            <a:srgbClr val="eeec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6753240" y="5022720"/>
            <a:ext cx="213984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6753240" y="5227560"/>
            <a:ext cx="213984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6753240" y="5432400"/>
            <a:ext cx="2139840" cy="12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6753240" y="5638680"/>
            <a:ext cx="213984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9"/>
          <p:cNvSpPr/>
          <p:nvPr/>
        </p:nvSpPr>
        <p:spPr>
          <a:xfrm>
            <a:off x="6753240" y="5843520"/>
            <a:ext cx="213984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0"/>
          <p:cNvSpPr/>
          <p:nvPr/>
        </p:nvSpPr>
        <p:spPr>
          <a:xfrm>
            <a:off x="6753240" y="6048360"/>
            <a:ext cx="2139840" cy="12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6756480" y="5555880"/>
            <a:ext cx="2133360" cy="723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3"/>
          <p:cNvSpPr/>
          <p:nvPr/>
        </p:nvSpPr>
        <p:spPr>
          <a:xfrm flipV="1">
            <a:off x="6743880" y="4857480"/>
            <a:ext cx="2082600" cy="711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7031520" y="6442200"/>
            <a:ext cx="16588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tical Re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6754680" y="5114880"/>
            <a:ext cx="215136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6765840" y="5330880"/>
            <a:ext cx="215100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6778800" y="5546880"/>
            <a:ext cx="214920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6743880" y="5718240"/>
            <a:ext cx="215100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6765840" y="5934240"/>
            <a:ext cx="215100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6778800" y="6195960"/>
            <a:ext cx="205884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1"/>
          <p:cNvSpPr/>
          <p:nvPr/>
        </p:nvSpPr>
        <p:spPr>
          <a:xfrm>
            <a:off x="6743880" y="3594240"/>
            <a:ext cx="2171520" cy="583920"/>
          </a:xfrm>
          <a:prstGeom prst="roundRect">
            <a:avLst>
              <a:gd name="adj" fmla="val 12495"/>
            </a:avLst>
          </a:prstGeom>
          <a:solidFill>
            <a:srgbClr val="eeec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2"/>
          <p:cNvSpPr/>
          <p:nvPr/>
        </p:nvSpPr>
        <p:spPr>
          <a:xfrm>
            <a:off x="6754680" y="3984480"/>
            <a:ext cx="2151360" cy="1368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6767640" y="3641760"/>
            <a:ext cx="215100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4"/>
          <p:cNvSpPr/>
          <p:nvPr/>
        </p:nvSpPr>
        <p:spPr>
          <a:xfrm flipH="1">
            <a:off x="6768720" y="3784680"/>
            <a:ext cx="2133720" cy="190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6950520" y="4219560"/>
            <a:ext cx="1911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rizontal Re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ate Placeholder 2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959D-7DE3-40E5-9582-08D449717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2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Documents and Settings\ECE\Desktop\CMS_TV Scan\Composite V S 011.jpg"/>
          <p:cNvPicPr/>
          <p:nvPr/>
        </p:nvPicPr>
        <p:blipFill>
          <a:blip r:embed="rId1"/>
          <a:stretch/>
        </p:blipFill>
        <p:spPr>
          <a:xfrm>
            <a:off x="285840" y="500040"/>
            <a:ext cx="8643960" cy="5786640"/>
          </a:xfrm>
          <a:prstGeom prst="rect">
            <a:avLst/>
          </a:prstGeom>
          <a:ln w="0">
            <a:noFill/>
          </a:ln>
        </p:spPr>
      </p:pic>
      <p:sp>
        <p:nvSpPr>
          <p:cNvPr id="23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F6B4-90BB-4921-8D99-162CD0DBC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051B-65D5-4008-B77A-906E347FF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3071520"/>
            <a:ext cx="46432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erlin Sans FB"/>
              </a:rPr>
              <a:t>Image Formation and Displ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5BAA-A88E-41A8-9314-A4FF94C5B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 Sig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4952880"/>
            <a:ext cx="865512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tage level indicates brigh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nking during non-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r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27" descr="signal-video"/>
          <p:cNvPicPr/>
          <p:nvPr/>
        </p:nvPicPr>
        <p:blipFill>
          <a:blip r:embed="rId1"/>
          <a:stretch/>
        </p:blipFill>
        <p:spPr>
          <a:xfrm>
            <a:off x="2286000" y="1249200"/>
            <a:ext cx="4664160" cy="3108600"/>
          </a:xfrm>
          <a:prstGeom prst="rect">
            <a:avLst/>
          </a:prstGeom>
          <a:ln w="0">
            <a:noFill/>
          </a:ln>
        </p:spPr>
      </p:pic>
      <p:sp>
        <p:nvSpPr>
          <p:cNvPr id="24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E12A-A543-49FB-AE48-391739615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rtical Re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12840" y="1714680"/>
            <a:ext cx="632448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rtional to # of vertical scan 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oret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xim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lf #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visi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can 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 lines alternate with wh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. line pairs = video lines /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6576840" y="4381560"/>
            <a:ext cx="2125800" cy="1568520"/>
          </a:xfrm>
          <a:prstGeom prst="roundRect">
            <a:avLst>
              <a:gd name="adj" fmla="val 12495"/>
            </a:avLst>
          </a:prstGeom>
          <a:solidFill>
            <a:srgbClr val="4f81b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6575400" y="4584600"/>
            <a:ext cx="213984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6575400" y="4789440"/>
            <a:ext cx="213984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6575400" y="4994280"/>
            <a:ext cx="2139840" cy="12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8"/>
          <p:cNvSpPr/>
          <p:nvPr/>
        </p:nvSpPr>
        <p:spPr>
          <a:xfrm>
            <a:off x="6575400" y="5200560"/>
            <a:ext cx="213984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9"/>
          <p:cNvSpPr/>
          <p:nvPr/>
        </p:nvSpPr>
        <p:spPr>
          <a:xfrm>
            <a:off x="6575400" y="5405400"/>
            <a:ext cx="213984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6575400" y="5610240"/>
            <a:ext cx="2139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1"/>
          <p:cNvSpPr/>
          <p:nvPr/>
        </p:nvSpPr>
        <p:spPr>
          <a:xfrm>
            <a:off x="6576840" y="4676760"/>
            <a:ext cx="2151360" cy="13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2"/>
          <p:cNvSpPr/>
          <p:nvPr/>
        </p:nvSpPr>
        <p:spPr>
          <a:xfrm>
            <a:off x="6588000" y="4892760"/>
            <a:ext cx="2151360" cy="13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6600960" y="5108400"/>
            <a:ext cx="214920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>
            <a:off x="6566040" y="5280120"/>
            <a:ext cx="2151000" cy="13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6588000" y="5495760"/>
            <a:ext cx="215136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6600960" y="5757840"/>
            <a:ext cx="2058840" cy="13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Date Placeholder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1810-9DBB-4957-9B1A-F2DA960FE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1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C:\Documents and Settings\ECE\Desktop\CMS_TV Scan\Composite V S.jpg"/>
          <p:cNvPicPr/>
          <p:nvPr/>
        </p:nvPicPr>
        <p:blipFill>
          <a:blip r:embed="rId1"/>
          <a:stretch/>
        </p:blipFill>
        <p:spPr>
          <a:xfrm>
            <a:off x="214200" y="214200"/>
            <a:ext cx="8572680" cy="6357960"/>
          </a:xfrm>
          <a:prstGeom prst="rect">
            <a:avLst/>
          </a:prstGeom>
          <a:ln w="0">
            <a:noFill/>
          </a:ln>
        </p:spPr>
      </p:pic>
      <p:sp>
        <p:nvSpPr>
          <p:cNvPr id="27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A7CA-A15C-447C-AC4B-7F743A978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ECE\Desktop\CMS_TV Scan\Composite V S 001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286680"/>
          </a:xfrm>
          <a:prstGeom prst="rect">
            <a:avLst/>
          </a:prstGeom>
          <a:ln w="0">
            <a:noFill/>
          </a:ln>
        </p:spPr>
      </p:pic>
      <p:sp>
        <p:nvSpPr>
          <p:cNvPr id="274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F14D-17FF-414D-94FB-C814B697A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C:\Documents and Settings\ECE\Desktop\CMS_TV Scan\Composite V S 002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ACFB-CAC8-45B6-8F34-D1AF06D82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Par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on characteristics and scanning systems, Composite video sig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Part 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ra tubes: Principle of operation, Image Orthicon, Vidicon, Plumbic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Part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 diagram of broad cast TV transmi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 diagram of broadcast TV recei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067A-64B2-40DB-AB3A-4D9D0803A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C:\Documents and Settings\ECE\My Documents\My Pictures\untitled.JPG"/>
          <p:cNvPicPr/>
          <p:nvPr/>
        </p:nvPicPr>
        <p:blipFill>
          <a:blip r:embed="rId1"/>
          <a:stretch/>
        </p:blipFill>
        <p:spPr>
          <a:xfrm>
            <a:off x="785880" y="1285920"/>
            <a:ext cx="7143840" cy="5000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071720" y="57168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erlin Sans FB Demi"/>
              </a:rPr>
              <a:t>Details of Horizontal Sc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1839-DA2C-416B-8883-1B01440F4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C:\Documents and Settings\ECE\Desktop\CMS_TV Scan\Composite V S 003.jpg"/>
          <p:cNvPicPr/>
          <p:nvPr/>
        </p:nvPicPr>
        <p:blipFill>
          <a:blip r:embed="rId1"/>
          <a:stretch/>
        </p:blipFill>
        <p:spPr>
          <a:xfrm>
            <a:off x="285840" y="428760"/>
            <a:ext cx="8572320" cy="5929200"/>
          </a:xfrm>
          <a:prstGeom prst="rect">
            <a:avLst/>
          </a:prstGeom>
          <a:ln w="0">
            <a:noFill/>
          </a:ln>
        </p:spPr>
      </p:pic>
      <p:sp>
        <p:nvSpPr>
          <p:cNvPr id="285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3E43-9C0F-4013-AA46-298E731AD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:\Documents and Settings\ECE\Desktop\CMS_TV Scan\Composite V S 004.jpg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6072120"/>
          </a:xfrm>
          <a:prstGeom prst="rect">
            <a:avLst/>
          </a:prstGeom>
          <a:ln w="0">
            <a:noFill/>
          </a:ln>
        </p:spPr>
      </p:pic>
      <p:sp>
        <p:nvSpPr>
          <p:cNvPr id="28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5091-A916-4148-B6B9-3AFCA56C4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Documents and Settings\ECE\Desktop\CMS_TV Scan\Composite V S 005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29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D34C-D312-44AA-BC00-A260C1696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C:\Documents and Settings\ECE\Desktop\CMS_TV Scan\Composite V S 006.jpg"/>
          <p:cNvPicPr/>
          <p:nvPr/>
        </p:nvPicPr>
        <p:blipFill>
          <a:blip r:embed="rId1"/>
          <a:stretch/>
        </p:blipFill>
        <p:spPr>
          <a:xfrm>
            <a:off x="285840" y="428760"/>
            <a:ext cx="8715240" cy="6143400"/>
          </a:xfrm>
          <a:prstGeom prst="rect">
            <a:avLst/>
          </a:prstGeom>
          <a:ln w="0">
            <a:noFill/>
          </a:ln>
        </p:spPr>
      </p:pic>
      <p:sp>
        <p:nvSpPr>
          <p:cNvPr id="29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DE47-CEC8-4E91-9D29-2AE0CF633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C:\Documents and Settings\ECE\Desktop\CMS_TV Scan\Composite V S 007.jpg"/>
          <p:cNvPicPr/>
          <p:nvPr/>
        </p:nvPicPr>
        <p:blipFill>
          <a:blip r:embed="rId1"/>
          <a:stretch/>
        </p:blipFill>
        <p:spPr>
          <a:xfrm>
            <a:off x="571680" y="857160"/>
            <a:ext cx="7786440" cy="5143680"/>
          </a:xfrm>
          <a:prstGeom prst="rect">
            <a:avLst/>
          </a:prstGeom>
          <a:ln w="0">
            <a:noFill/>
          </a:ln>
        </p:spPr>
      </p:pic>
      <p:sp>
        <p:nvSpPr>
          <p:cNvPr id="30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FFE7-8FB8-4152-8299-6FAD328C0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C:\Documents and Settings\ECE\Desktop\CMS_TV Scan\Composite V S 008.jpg"/>
          <p:cNvPicPr/>
          <p:nvPr/>
        </p:nvPicPr>
        <p:blipFill>
          <a:blip r:embed="rId1"/>
          <a:stretch/>
        </p:blipFill>
        <p:spPr>
          <a:xfrm>
            <a:off x="357120" y="357120"/>
            <a:ext cx="8501040" cy="6286680"/>
          </a:xfrm>
          <a:prstGeom prst="rect">
            <a:avLst/>
          </a:prstGeom>
          <a:ln w="0">
            <a:noFill/>
          </a:ln>
        </p:spPr>
      </p:pic>
      <p:sp>
        <p:nvSpPr>
          <p:cNvPr id="305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9AB3-82EB-47B1-AFCC-56262A5C5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C:\Documents and Settings\ECE\Desktop\CMS_TV Scan\CCIR 625 b.jpg"/>
          <p:cNvPicPr/>
          <p:nvPr/>
        </p:nvPicPr>
        <p:blipFill>
          <a:blip r:embed="rId1"/>
          <a:stretch/>
        </p:blipFill>
        <p:spPr>
          <a:xfrm>
            <a:off x="500040" y="1143000"/>
            <a:ext cx="8143920" cy="5072040"/>
          </a:xfrm>
          <a:prstGeom prst="rect">
            <a:avLst/>
          </a:prstGeom>
          <a:ln w="0">
            <a:noFill/>
          </a:ln>
        </p:spPr>
      </p:pic>
      <p:sp>
        <p:nvSpPr>
          <p:cNvPr id="30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F858-DC1D-4122-A981-53F0053A0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Documents and Settings\ECE\Desktop\CMS_TV Scan\UK TV.jpg"/>
          <p:cNvPicPr/>
          <p:nvPr/>
        </p:nvPicPr>
        <p:blipFill>
          <a:blip r:embed="rId1"/>
          <a:stretch/>
        </p:blipFill>
        <p:spPr>
          <a:xfrm>
            <a:off x="1000080" y="1000080"/>
            <a:ext cx="7000920" cy="4572000"/>
          </a:xfrm>
          <a:prstGeom prst="rect">
            <a:avLst/>
          </a:prstGeom>
          <a:ln w="0">
            <a:noFill/>
          </a:ln>
        </p:spPr>
      </p:pic>
      <p:sp>
        <p:nvSpPr>
          <p:cNvPr id="31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7ECF-7673-41AE-9F95-BB6BA4830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C:\Documents and Settings\ECE\Desktop\CMS_TV Scan\US TV.jpg"/>
          <p:cNvPicPr/>
          <p:nvPr/>
        </p:nvPicPr>
        <p:blipFill>
          <a:blip r:embed="rId1"/>
          <a:stretch/>
        </p:blipFill>
        <p:spPr>
          <a:xfrm>
            <a:off x="857160" y="928800"/>
            <a:ext cx="7429680" cy="4929120"/>
          </a:xfrm>
          <a:prstGeom prst="rect">
            <a:avLst/>
          </a:prstGeom>
          <a:ln w="0">
            <a:noFill/>
          </a:ln>
        </p:spPr>
      </p:pic>
      <p:sp>
        <p:nvSpPr>
          <p:cNvPr id="31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506D-C433-40B0-A01D-B053E48D9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Elements of a T V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 Transmi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nd Transmi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 Re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nd Re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chr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iver Contr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ur Televi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1246-60E3-4A57-A440-BEDDB9537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C:\Documents and Settings\ECE\Desktop\CMS_TV Scan\Adjacent.jpg"/>
          <p:cNvPicPr/>
          <p:nvPr/>
        </p:nvPicPr>
        <p:blipFill>
          <a:blip r:embed="rId1"/>
          <a:stretch/>
        </p:blipFill>
        <p:spPr>
          <a:xfrm>
            <a:off x="1000080" y="1000080"/>
            <a:ext cx="7286760" cy="5000760"/>
          </a:xfrm>
          <a:prstGeom prst="rect">
            <a:avLst/>
          </a:prstGeom>
          <a:ln w="0">
            <a:noFill/>
          </a:ln>
        </p:spPr>
      </p:pic>
      <p:sp>
        <p:nvSpPr>
          <p:cNvPr id="32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F0E2-17AC-493D-AF2D-26C9ED074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785880" y="1023840"/>
            <a:ext cx="7713720" cy="57628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2"/>
          <p:cNvSpPr/>
          <p:nvPr/>
        </p:nvSpPr>
        <p:spPr>
          <a:xfrm>
            <a:off x="1071720" y="285840"/>
            <a:ext cx="70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erlin Sans FB Demi"/>
              </a:rPr>
              <a:t>Characteristics of the 625-B Monochrome TV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AC74-B102-449D-A425-59CA0F62B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 rot="20378400">
            <a:off x="-58320" y="2918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Next…</a:t>
            </a:r>
            <a:br>
              <a:rPr sz="8000"/>
            </a:br>
            <a:r>
              <a:rPr b="0" lang="en-US" sz="8000" spc="-1" strike="noStrike">
                <a:solidFill>
                  <a:srgbClr val="1e03bd"/>
                </a:solidFill>
                <a:latin typeface="Berlin Sans FB"/>
              </a:rPr>
              <a:t>Television – 2 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6185-354D-4FAA-86D8-4691AA59E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Basic monochrome television transmit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B3CB-AAB3-4B3D-9A89-B58EAE79C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Basic monochrome television receiv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  <p:sp>
        <p:nvSpPr>
          <p:cNvPr id="7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E5C9-514B-4571-A4CC-3B6A55F6B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Simplified cross-sectional view of a Vidicon TV camera tub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F138-C183-4268-85E9-5AB8F30B2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14200" y="274320"/>
            <a:ext cx="95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erlin Sans FB"/>
              </a:rPr>
              <a:t>Path of scanning beam in covering picture ar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4A60-09F3-42E5-9FC5-FBEA0B801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Elements of a picture tu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E117-0D2A-4466-B358-7A920315F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02:45:06Z</dcterms:created>
  <dc:creator>T Srinivasa Rao</dc:creator>
  <dc:description/>
  <dc:language>en-US</dc:language>
  <cp:lastModifiedBy>T Srinivasa Rao</cp:lastModifiedBy>
  <dcterms:modified xsi:type="dcterms:W3CDTF">2010-01-30T02:46:36Z</dcterms:modified>
  <cp:revision>2</cp:revision>
  <dc:subject/>
  <dc:title> TELEVISION - 1</dc:title>
</cp:coreProperties>
</file>